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5EE-4B0C-4E4B-BF0F-DF32005A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4FB-5ADE-49ED-BB61-2C86C4D5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022-731C-4B3F-9386-E3148624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6A4-E19D-4410-98AD-099FDEB0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489B7-5B4A-42CA-9EA2-44909932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A9322-7053-45E5-AF60-DBFB145A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413E0-53BC-4DEF-8BA7-66EBA6CE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BC10F-B728-4453-8596-1FBD62AB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A7533-5464-4804-8368-508A7F2F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921B7-1F8B-4A8A-8C20-63A78069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46468-2E5C-4195-BD44-978F135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43D-1B26-4E8C-83B7-06B3D6C7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F6070-9576-4855-96FB-75B201DF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F6752-DF28-4DD9-9DFA-CB0116D6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02A3-7990-463C-BC0E-4584E2BC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30B16-7E3D-4C06-8E0F-B9C7AB79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D33E3-2A2D-4CDA-A0F9-2ACF46F6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D7F-E91A-4271-A978-43581DB1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0DA-32BA-4EF7-92D7-D61EACDA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D11-B0C6-4933-8227-FC183B7D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373-72B3-4EF9-A36F-A50D7834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FCB-685B-4B17-B92B-9124E38E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B66-ECF6-4CAD-9EB6-9E2B4F3E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AF8-1466-4BC7-AD8B-4BF6853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9E49-BBF8-44A0-A043-B59AF038A3AB}" type="slidenum">
              <a:rPr b="0" lang="sl-SI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182F-7AA3-47B2-9E96-26FB1C35EB87}" type="slidenum">
              <a:rPr b="0" lang="sl-SI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felix.sskrseuas@guest.arnes.si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333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33cc"/>
                </a:solidFill>
                <a:latin typeface="Times New Roman"/>
              </a:rPr>
              <a:t>POSLOVNI</a:t>
            </a:r>
            <a:r>
              <a:rPr b="1" lang="sl-SI" sz="3200" spc="-1" strike="noStrike">
                <a:solidFill>
                  <a:srgbClr val="ff99ff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ff33cc"/>
                </a:solidFill>
                <a:latin typeface="Times New Roman"/>
              </a:rPr>
              <a:t>NAČ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11280" y="1341360"/>
          <a:ext cx="7777080" cy="481032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ma:</a:t>
                      </a: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l-SI" sz="2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Up z modnimi dodatki d.o.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dež podjetja:</a:t>
                      </a:r>
                      <a:r>
                        <a:rPr b="1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l-SI" sz="2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Ekonomska šola Kranj, Cesta Staneta Žagarja, 4000 Kran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Tel.: ++386 04 201 10 627 </a:t>
                      </a:r>
                      <a:br>
                        <a:rPr sz="2800"/>
                      </a:br>
                      <a:r>
                        <a:rPr b="1" lang="sl-SI" sz="2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Fax.: ++386 04 201 10 626 </a:t>
                      </a:r>
                      <a:br>
                        <a:rPr sz="2800"/>
                      </a:br>
                      <a:r>
                        <a:rPr b="1" lang="sl-SI" sz="28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e-mail: </a:t>
                      </a:r>
                      <a:r>
                        <a:rPr b="0" lang="sl-SI" sz="2800" spc="-1" strike="noStrike" u="sng">
                          <a:solidFill>
                            <a:srgbClr val="663300"/>
                          </a:solidFill>
                          <a:uFillTx/>
                          <a:latin typeface="Times New Roman"/>
                          <a:hlinkClick r:id="rId2"/>
                        </a:rPr>
                        <a:t>felix.sskrseuas@guest.arnes.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 team</a:t>
                      </a:r>
                      <a:br>
                        <a:rPr sz="2800"/>
                      </a:b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e, priimek, funkcija v podjetj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cc6600"/>
                          </a:solidFill>
                          <a:latin typeface="Times New Roman"/>
                        </a:rPr>
                        <a:t>Mateja Štern, direk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18900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2060640"/>
          <a:ext cx="8136000" cy="24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060640"/>
                    <a:ext cx="813600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2133720"/>
          <a:ext cx="7407360" cy="23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133720"/>
                    <a:ext cx="7407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00000" y="2133720"/>
          <a:ext cx="7345440" cy="17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133720"/>
                    <a:ext cx="734544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5943600" cy="6669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42920" y="361800"/>
          <a:ext cx="6553440" cy="616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61800"/>
                    <a:ext cx="6553440" cy="61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40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33cc"/>
                </a:solidFill>
                <a:latin typeface="Times New Roman"/>
              </a:rPr>
              <a:t>DEJAVNOSTI PODJETJA</a:t>
            </a:r>
            <a:r>
              <a:rPr b="1" lang="sl-SI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628640"/>
            <a:ext cx="66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rgovina na debe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Prodaja modnih dodatk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63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55640" y="2060640"/>
          <a:ext cx="7743960" cy="23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060640"/>
                    <a:ext cx="774396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11280" y="40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33cc"/>
                </a:solidFill>
                <a:latin typeface="Times New Roman"/>
              </a:rPr>
              <a:t>CILJNE SKUP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205000"/>
            <a:ext cx="8207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Prodaja drugim UP v Sloveni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Prodaja zaposlenim v UP( Slovenij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33cc"/>
                </a:solidFill>
                <a:latin typeface="Times New Roman"/>
              </a:rPr>
              <a:t>Namen podjetja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Zadovoljstvo kupcev z izdel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Čim večji dobič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189000"/>
            <a:ext cx="734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72960" y="1413000"/>
          <a:ext cx="8399520" cy="30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2960" y="1413000"/>
                    <a:ext cx="839952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33cc"/>
                </a:solidFill>
                <a:latin typeface="Times New Roman"/>
              </a:rPr>
              <a:t>DISTRIBUCIJSKI KANA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844640"/>
            <a:ext cx="8207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rgovina na debe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Zastop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stali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47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33cc"/>
                </a:solidFill>
                <a:latin typeface="Times New Roman"/>
              </a:rPr>
              <a:t>KOMUNICIRANJE S TRG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20072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989000"/>
                    <a:ext cx="72007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680" y="523800"/>
          <a:ext cx="9136080" cy="581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523800"/>
                    <a:ext cx="913608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7:26:49Z</dcterms:created>
  <dc:creator>Jani</dc:creator>
  <dc:description/>
  <dc:language>en-US</dc:language>
  <cp:lastModifiedBy>c1</cp:lastModifiedBy>
  <dcterms:modified xsi:type="dcterms:W3CDTF">2006-10-09T10:53:00Z</dcterms:modified>
  <cp:revision>69</cp:revision>
  <dc:subject/>
  <dc:title>Slide 1</dc:title>
</cp:coreProperties>
</file>